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78BE-FF68-4C31-AEC1-9AAF2C342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27F7-E7C3-429B-9351-8C465481B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A4A4-E01A-4BAB-B02A-E1C91DAC4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BC7D-94CE-4DAE-97CC-17E59C3D7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D3C2-A464-463C-A12E-2932ED6DE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226F-BCD3-4ECC-BE8D-426F2B267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DFE1-343C-4679-BA7D-194D876A4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9C6A-1A1C-4D9D-B06A-65DB6BAE6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38CD-A9B8-4008-B923-88EE6E972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812E-6C88-46F5-9AFB-1EAD0A2DC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3CE8-72E6-4A12-B7BE-E61A24F75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E4E1-53F1-40EA-8D1F-86DDE719F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69EF-54B3-4FAC-842D-4530BEA1B9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D21-10D6-4C50-A37D-DED23E992A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5132-D804-4C31-8E75-BB60E6531D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302D-FA85-415F-9EE9-48500B23B6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EBDC-9B3D-44F1-AAF9-54E9B3AEE6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A2DB-2092-45F8-B7E7-DD465F99E3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2D5-9D4A-4BA8-A9D3-E8E5D95CE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685D-C0AD-4D22-B363-3F8DD43749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18D-DC22-4B1B-89F4-122D7295B3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7E3-7B83-4560-96FE-8B4FF90089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356-168C-46E2-BB61-192F086CCF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7DA0-A237-42C5-B907-4393DFA251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D6D-DB47-4800-B8F7-174CB9EECF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168-7FD2-4D16-882C-4BB3872C77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E221-7418-4D12-8CA7-998437ED02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0768-AA3F-478F-BE87-F3B734DEC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95B1-1752-432C-B4E6-C5CF96007A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CC78-31DC-45FC-87BF-C54E736500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0A7D-BF4E-4B65-8682-EACFF20A84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675-A3A9-4BA3-918E-2E44BC3315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25A-5CD0-42A3-BF94-A08A54ED34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C39-E602-48D8-AD94-57041CB5FD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F063-5872-4FE0-A10D-0DCB64914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C263-4AB9-4B03-9977-F98D5AAE82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09:50Z</dcterms:modified>
  <cp:revision>29</cp:revision>
  <dc:subject/>
  <dc:title>&lt;Title&gt;</dc:title>
</cp:coreProperties>
</file>